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dt" idx="2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2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E70A8-E470-4BAC-988E-669117DBAE7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F17B8-3765-47BB-A4BF-B6909C60287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551A3-18DA-445F-8E14-694F122CBFE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B7D6-82FC-4206-AF26-90D67BE9A76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6381E-0303-47AC-AA17-A2D33944FE8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7DAE5-21B8-4B36-8D50-BF23A528B24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843F5-8206-4913-A6BE-A26E891792B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66B5-297C-4090-9B6D-40450231BAF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94614-DB7F-4517-B3FD-89324F92D8D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DC36D1-6CCF-4FC9-B5F1-5CD9275FDE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CEB0-9106-491B-82C2-AC7A5A0374D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7429-65D0-4A47-AB50-00DDB584FB4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4F121-014F-4A45-87F8-DD52214CE59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4C803-AFC5-443D-A309-282101B5A0A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D6DF-E1CB-4516-B221-FF4C7E8438A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0C72E-D33D-44C1-B11E-207F0DF2FAC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F3D76-538E-4984-9926-3630245A14B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069CF-FD05-48A9-B9AF-CDCA8611799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B5614-9984-4F88-94D7-0BC1F5C562D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2268-EA0E-448D-A614-5F89B07B162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08AE7-EA92-42BD-85DD-78FDF526B09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A97BD-78F0-4D17-87B0-4CC6B9A76CC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294C-D6D3-460E-8BC7-D377CB58E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9A1A-3662-4DF7-A588-5F7CC98230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D262-B230-43CD-B1E6-5A025D20BC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6D88-C936-4D6A-BE13-ED64A524EE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7194-8075-4DC2-A0E5-8544B5DC5B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7EFB-348E-40E8-8C1E-CE7F9C2390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4DFA-D7D3-4AEB-8742-563BE53C49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B3C8-F191-4CB0-B445-71A9095C86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B35BA-77FB-4FFA-8F72-94E169F4CF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79A2-3367-4FA0-A11E-2087598A60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B22E6-217C-4437-A18E-EACECCE532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CB927-9456-4DC6-AA97-721F60A14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EF89-F3AE-4614-8D66-650859B0FD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584DF-6FD9-45EB-B319-74F8480361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72D31-850A-4E2C-A42A-BD59149E8F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53CBF-F097-406F-8ECF-BAE2997E80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2C312-9A27-4067-8314-522A557251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80A8A-E1E6-4548-B62E-E263C5F821A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2FA65-8402-486F-938C-418499E9FA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BE316-E9DE-4771-BFAA-24350DB3B3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1C192-5891-4A53-AE7B-F94FE3817D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DB051-A2D5-4434-83B3-2443A5220A0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E42A8-09E5-4291-A62B-7324B9065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B814-AD00-473C-A1BA-35DB3E50DA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65363-2D21-4437-A3C8-10E3266F3F2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F04997-62C3-44D9-92D9-A811499CCD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55E44-7F6D-4785-BA91-FCFDB0494E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A5EDD-F557-423D-A442-31337E84EC9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18C31-40AA-4212-87DE-96CE49B052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94030-F96C-46C1-9D48-4BD52CE2E86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AD2FA7-DDBC-4006-AE13-177D5F9483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E025F-1137-4D31-9474-84C4206F483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132ED-26FF-4782-976A-388422AD6B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7C935-79BD-450B-9BC7-6E1B663E0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7AA62-7161-4F4F-B948-CF282CA35B5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D44BD9-3FDA-40F2-AE64-B04D556AF75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681E9-AB26-418A-B249-1DD790556AC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958A3C-82E2-4FDA-9EFB-C78B9F69BD9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58E2-9727-4171-A764-860EBE7559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0364-26A9-46D4-BBC5-A857BFC5D3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CF8B-8CEC-4051-8EEC-68F6D01CC1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81740-D863-4EE8-A6AF-97FCB3B335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1A563-6823-4CD6-9429-7B04CEF1E0E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17F0-D406-4ACB-BF8A-D81C86364F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8E1B7-DE95-40E4-9045-67C3F8770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D3B02-66AF-49B0-92CD-19B46A21992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9D879-FAC6-4DCC-A382-BCF05F4DB4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092D-EE15-4DA9-8C13-DB00C41C6D9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DE84-7F35-4432-951F-C2CD152174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D995-91B7-42F1-B676-045E783388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DA45A-71A4-4400-AEC6-8F74FA89A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9C87C-B312-4AD0-A921-5A5C9D184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EA1B3-F90E-4C02-AEFC-8352EF20A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551C8-8873-4FC3-B4A7-1AEBCD6CF3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DD19E-0274-4804-97CA-F1F6B3BC29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73E84-7ECE-44D2-B824-4DCBAA61C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4033-7DC5-47AA-ADC1-210F3E953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21FA-D421-4AE8-B744-E5211EB133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653E-1A3E-4328-87F6-262B1BC51C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298A6-6B63-4A96-ACB2-E1628C6AA3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3E0F2-2C6D-4CFD-A2AF-0FA2C47F3B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EBB71-9F83-41E7-A0FC-E33061ED5E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C3A82-DB7A-47E9-9000-1F58F9A66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25100-B0EA-43E2-85A7-24D22316BD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11717-1D3E-4993-AE26-45907AFCD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830F7-ABF3-49DE-8C48-EEDD17CC42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14BA6-9E93-4302-B790-A14F252B5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9832-BD66-4544-B916-2ADA99B5C9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44495-0DA4-4C41-BEF8-0E331C23A5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FB8EC-552D-405A-B795-605B1AC0AD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6C09-6D93-4E56-8BE6-06ACB4C070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2442A-F34B-4E6C-BFD9-A9792D4834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2A413-2ACA-47B9-9776-C4210897E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345E-7F2E-4A69-8936-6F17362DBB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D1424-B68B-48FE-A96A-639D16E252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AC6DF-85C6-4C08-9014-001E0CCE37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710486-D8BA-4E0B-8CAE-A4CE4087ED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DB55B-78DD-49B3-AD6F-85F0F94EE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CF45-2010-4D44-AA62-48F1E105FA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5FC95-E944-4046-A5CB-3ADAAFD250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46737-8499-4778-80CD-ED6CEF2003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2C712-9266-42CF-A08B-5C18BEAC61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F7D67-A079-4A46-ACDB-6A0CFA7098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DBF8F-E9B6-44BA-BF93-CD4E23DEE8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C6303-03A5-4914-925E-9AF0684B03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42C0D-8319-4828-B41C-8976C25E20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773B1-611E-4CC0-BEAE-2BD8E0A2C3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9088F-1A46-456B-B090-B2B0BAE0AA6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D3C7-282B-4C48-9A34-9BCEE290A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A5BE-47C6-412D-B07A-3C1E368A99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F320-523A-4DB7-BE1D-7F40C19B1C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B230-6D66-4C5E-822A-669BAD9D79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45ED-A535-472A-93C7-EF85F59E5C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B659-2765-44BD-B315-AB5D5D9EF1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2921-778D-4403-9BA9-57C9D158F9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73C4-5B61-4762-8294-9CB586F873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D979-3C00-41E5-859F-4876DBC861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E3F9-56B3-43BA-9C9F-797D3E522A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5B66-80FD-4DD4-AAEF-186A5808E5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6A6F-7212-4C98-8A2E-FD2C150EE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A352-7C7B-498B-A5B6-2AF2CE41C9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A8AB-83BC-48F6-B972-797EEB7FAC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7289C-650B-4525-8CAB-781305AF21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CD084-CA66-4FBF-B2D8-ECEC5BB01C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02F70-20BD-481C-A746-4E98D1600C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20506-D1CA-40C7-9EF3-04E76B4786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A932F-7EBE-4110-9AE4-856DFAA115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91F43-6E21-4CCA-BAC8-5630D26F65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73BE6-56C1-488B-A19F-622BE0D1DEE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A1173-4BD0-41FF-A650-361EDAFA41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C8F23-7603-4D0A-9B81-3CF893936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4CD2-18F9-43F8-A558-BA44842AE8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47E6B-89E0-4508-8B60-93EC95FDBD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D3147-276E-4596-9F2F-B731960115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53C0F-BF86-44DE-BC9C-A14997777E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42975-764C-441C-8575-24931EE73EC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D9472-3B3C-4B50-AAF4-C3BD4EDC90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981C0-AC85-41E6-80F8-1A1325E0DA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D83C7-7C31-46A9-9284-5DD6599898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7ACB6-4474-4DD5-8E27-211441B748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68169-A69A-409B-B093-A690866F2C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54851-099B-47C9-AB13-0D4D07B4C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ED73-1B99-4765-83D6-D7B3A8FBE3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0ED4F-D530-4786-A667-CBC1F397FF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F31D5-A590-46FA-B705-B648429B0B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D155E-9A0F-40B8-AE5F-F657B5F500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FD374-21CB-45EB-9915-50BCF88C413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FA85D-80D1-4B11-9012-81D7E25A01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57D86-0C53-456B-AD52-D8C50CADFD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AE844-222A-460B-ACAB-C32D12D71E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CCEEEA-148A-4BBE-9035-F2B965ED34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A0FE2-0545-4906-AAA4-C0DED4AB35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D6184-FC31-4109-BCF2-1ACABEA14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5FA6-B2CE-4AFA-AFB0-7550CB8C04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7CF79-C1F3-476A-8DB7-E4706862660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D6D3A0-9189-405A-98E4-6DB895151B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23F7C1-1AF1-457E-A1D9-A4E7DD3490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53EA1F-FE13-4B68-A66E-D926AB1D3B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AF0014-CDE0-461F-9C0B-A729B60CBC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015BD-0CB3-43B6-9364-DEFAEB4574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28033-D687-45DE-B7C1-70D5A2879B5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98E3-F6A7-405A-B99B-F66965AE5E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C8D6-DA49-48AF-9E87-2682DB0BFF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5943A-5816-4768-A2BF-11894D1AE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38200" y="6206760"/>
            <a:ext cx="4275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ier een voetregel over t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52240" y="6206760"/>
            <a:ext cx="811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97DF2D-2145-4F21-8C54-DC05E62E020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5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9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0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171C07-B502-4E81-B322-59743B3BA8F8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2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EEEB66-C39F-4274-9CE1-F19E73BE42D5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1CB7D-C2F6-4C91-A564-FA83CCFFA58B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Hier een voetregel over ti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C8EE59-03EF-4B4D-9A64-6223A762B540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7BD19A-F3AC-4E8C-96C7-CF2AF5DAEAC5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206520" y="6356160"/>
            <a:ext cx="4273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7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64C8C6-F7AF-447D-A9B5-6D9D7DB9B3FD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356160"/>
            <a:ext cx="4525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9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FE8516-ACB3-44D3-88E6-9398E4F123AE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0"/>
          </p:nvPr>
        </p:nvSpPr>
        <p:spPr>
          <a:xfrm>
            <a:off x="3206520" y="6356160"/>
            <a:ext cx="4273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A1FB81-0210-4A4F-A7E8-E9D3EAA676EE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206520" y="6356160"/>
            <a:ext cx="4273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3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4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8184E7-5423-44AC-8C06-D4B5E2E5C37D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3E1363-BAF3-4868-85C1-2E10D3F727DC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7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85CDA9-ACCD-4874-BBDA-0F9C0F2960DD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formatieuitwisselingmilieu.nl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" descr=""/>
          <p:cNvPicPr/>
          <p:nvPr/>
        </p:nvPicPr>
        <p:blipFill>
          <a:blip r:embed="rId1"/>
          <a:stretch/>
        </p:blipFill>
        <p:spPr>
          <a:xfrm>
            <a:off x="2087640" y="0"/>
            <a:ext cx="4790880" cy="4813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0" y="4659480"/>
            <a:ext cx="8798040" cy="1085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0" y="4719600"/>
            <a:ext cx="8970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ffffff"/>
                </a:solidFill>
                <a:latin typeface="Calibri"/>
              </a:rPr>
              <a:t>StUF-RIH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ffffff"/>
                </a:solidFill>
                <a:latin typeface="Calibri"/>
              </a:rPr>
              <a:t>StUF regiegroep 2 oktober 2013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6996"/>
                </a:solidFill>
                <a:latin typeface="Calibri"/>
              </a:rPr>
              <a:t>PIM is een samenwerking tussen Rijk, IPO en V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a6eb"/>
                </a:solidFill>
                <a:latin typeface="Calibri"/>
              </a:rPr>
              <a:t>www.informatieuitwisselingmilieu.n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4: heldere besluitvorming- en participatie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755640" y="1197000"/>
            <a:ext cx="771516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luitvorming beschreven in beheer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Tijdens programmaf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Na programmaf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Opgezet conform B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articipatie via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Pleio platform: Standaardisatie Toezicht en Handhaving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Object 3" descr=""/>
          <p:cNvPicPr/>
          <p:nvPr/>
        </p:nvPicPr>
        <p:blipFill>
          <a:blip r:embed="rId1"/>
          <a:srcRect l="0" t="-216" r="0" b="-343"/>
          <a:stretch/>
        </p:blipFill>
        <p:spPr>
          <a:xfrm>
            <a:off x="2268360" y="3860640"/>
            <a:ext cx="451512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5: vaste vertegenwoordiger in regiegro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755640" y="1268280"/>
            <a:ext cx="771516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ijdens programmafase: projectleider Standaarden P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 programmafase: vertegenwoordiger beheerorganisatie PIM Stand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1"/>
          <p:cNvSpPr/>
          <p:nvPr/>
        </p:nvSpPr>
        <p:spPr>
          <a:xfrm>
            <a:off x="611280" y="549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6: specificaties publiekelijk toegank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informatieuitwisselingmilieu.n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lle definitieve specific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Ondersteunende documentatie (bv. Implementatiewijz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eio-groep Standaardisatie Toezicht &amp; Handhaving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ceptversies specific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2"/>
          <a:stretch/>
        </p:blipFill>
        <p:spPr>
          <a:xfrm>
            <a:off x="1835280" y="3213000"/>
            <a:ext cx="525780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611280" y="54936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7: Beschreven beheermodel op basis van StUF beheer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heerplan PIM standaa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reder dan StUF-RI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ijzigingsprotocol o.b.v. B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16224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1"/>
          <p:cNvSpPr/>
          <p:nvPr/>
        </p:nvSpPr>
        <p:spPr>
          <a:xfrm>
            <a:off x="611280" y="54936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8: Inzicht in voorgenomen implement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mplementaties voorzien i.h.k.v. 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egionale Uitvoeringsdien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ijksinspec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Politie, OM, veiligheidsregio’s, landelijke meldpu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dule-ontwikkeling in VTH-syst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IHa 2.0: sector-overstijgend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er thema uniforme controlelij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xtra stimuleren do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anmelden bij Bureau Forum Standaardis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nrichten StUF test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erankering in VTH-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fstemmen met KING operatie NUP Toezicht &amp; Handha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PO: kwaliteit RUD’s met basisregistr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1"/>
          <p:cNvSpPr/>
          <p:nvPr/>
        </p:nvSpPr>
        <p:spPr>
          <a:xfrm>
            <a:off x="611280" y="54936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8: Voorziene ontwikke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ctor-overstijgend model RIHa 2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1"/>
          <p:cNvSpPr/>
          <p:nvPr/>
        </p:nvSpPr>
        <p:spPr>
          <a:xfrm>
            <a:off x="3479760" y="2322360"/>
            <a:ext cx="2846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600" spc="-1" strike="noStrike">
                <a:solidFill>
                  <a:srgbClr val="00a6eb"/>
                </a:solidFill>
                <a:latin typeface="Calibri"/>
              </a:rPr>
              <a:t>Extra pla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3520" y="603000"/>
            <a:ext cx="788508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Belangrijkste keuzen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3880" y="1596600"/>
            <a:ext cx="81597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te vra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andhavingsobjec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siers (handhavingsobject met gerelateerde zak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oestemmingen (incl. gerelateerde zak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t als zoekinga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catie (BAG- of BGT-object, geometrie, perce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trokkene (NPS, NNP of V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zoekberichten per zoekingang en per op te vragen object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én responsbericht per op te vragen object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623880" y="2257560"/>
            <a:ext cx="788508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552600" y="6208560"/>
            <a:ext cx="81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1FA031-83A8-4590-94FE-AFA526F47423}" type="slidenum">
              <a:rPr b="0" lang="nl-NL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124080" y="6356520"/>
            <a:ext cx="452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5" descr=""/>
          <p:cNvPicPr/>
          <p:nvPr/>
        </p:nvPicPr>
        <p:blipFill>
          <a:blip r:embed="rId1"/>
          <a:stretch/>
        </p:blipFill>
        <p:spPr>
          <a:xfrm>
            <a:off x="228600" y="0"/>
            <a:ext cx="8280360" cy="69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" descr=""/>
          <p:cNvPicPr/>
          <p:nvPr/>
        </p:nvPicPr>
        <p:blipFill>
          <a:blip r:embed="rId1"/>
          <a:stretch/>
        </p:blipFill>
        <p:spPr>
          <a:xfrm>
            <a:off x="623880" y="1189080"/>
            <a:ext cx="7354800" cy="47210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2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Inspectieview Milie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552600" y="299880"/>
            <a:ext cx="826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PIM: Samenwerken in de Milieuse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755640" y="1197000"/>
            <a:ext cx="788508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formatie infrastruct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ziening: 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uridische randvoorw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nd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IHa-Milieu: Referentie Informatiemodel Handha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eferentielijsten bij RIHa-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-RI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formatiegestuurd handh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nalyse &amp;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oorbereiding 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552600" y="6208560"/>
            <a:ext cx="81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38067E-080C-4C31-A845-159003DEA7B4}" type="slidenum">
              <a:rPr b="0" lang="nl-NL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rcRect l="10239" t="0" r="7990" b="8356"/>
          <a:stretch/>
        </p:blipFill>
        <p:spPr>
          <a:xfrm>
            <a:off x="5375160" y="3357720"/>
            <a:ext cx="37688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" descr=""/>
          <p:cNvPicPr/>
          <p:nvPr/>
        </p:nvPicPr>
        <p:blipFill>
          <a:blip r:embed="rId1"/>
          <a:stretch/>
        </p:blipFill>
        <p:spPr>
          <a:xfrm>
            <a:off x="2087640" y="0"/>
            <a:ext cx="4790880" cy="4813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"/>
          <p:cNvPicPr/>
          <p:nvPr/>
        </p:nvPicPr>
        <p:blipFill>
          <a:blip r:embed="rId2"/>
          <a:stretch/>
        </p:blipFill>
        <p:spPr>
          <a:xfrm>
            <a:off x="0" y="4659480"/>
            <a:ext cx="8798040" cy="6094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3"/>
          <p:cNvSpPr/>
          <p:nvPr/>
        </p:nvSpPr>
        <p:spPr>
          <a:xfrm>
            <a:off x="0" y="4719600"/>
            <a:ext cx="89708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ffffff"/>
                </a:solidFill>
                <a:latin typeface="Calibri"/>
              </a:rPr>
              <a:t>Programma Informatie-uitwisseling Milieuhandha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6996"/>
                </a:solidFill>
                <a:latin typeface="Calibri"/>
              </a:rPr>
              <a:t>PIM is een samenwerking tussen Rijk, IPO en V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a6eb"/>
                </a:solidFill>
                <a:latin typeface="Calibri"/>
              </a:rPr>
              <a:t>www.informatieuitwisselingmilieu.n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1"/>
          <p:cNvSpPr/>
          <p:nvPr/>
        </p:nvSpPr>
        <p:spPr>
          <a:xfrm>
            <a:off x="2655720" y="2498760"/>
            <a:ext cx="3702240" cy="2147760"/>
          </a:xfrm>
          <a:prstGeom prst="ellipse">
            <a:avLst/>
          </a:prstGeom>
          <a:noFill/>
          <a:ln cap="sq" w="856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312840" y="2028960"/>
            <a:ext cx="1295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g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684360" y="40464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Uitwisselen handhavingsinform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039760" y="1592280"/>
            <a:ext cx="100836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263760" y="1316160"/>
            <a:ext cx="100836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4518000" y="1700280"/>
            <a:ext cx="100800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N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563400" y="2235240"/>
            <a:ext cx="12970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g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852480" y="2556000"/>
            <a:ext cx="1295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g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216000" y="4508640"/>
            <a:ext cx="186192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etge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>
            <a:off x="415800" y="502128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Toelicht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>
            <a:off x="581040" y="552780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Jurispruden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>
            <a:off x="2655720" y="480708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13"/>
          <p:cNvSpPr/>
          <p:nvPr/>
        </p:nvSpPr>
        <p:spPr>
          <a:xfrm>
            <a:off x="3670200" y="568008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en bron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14"/>
          <p:cNvSpPr/>
          <p:nvPr/>
        </p:nvSpPr>
        <p:spPr>
          <a:xfrm>
            <a:off x="4956120" y="486900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Systeem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leveranc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>
            <a:off x="5603760" y="1222200"/>
            <a:ext cx="1008000" cy="7210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7215120" y="2405160"/>
            <a:ext cx="129564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Colle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17"/>
          <p:cNvSpPr/>
          <p:nvPr/>
        </p:nvSpPr>
        <p:spPr>
          <a:xfrm>
            <a:off x="7605720" y="2765520"/>
            <a:ext cx="12970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Colle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7723080" y="3789360"/>
            <a:ext cx="12970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Poli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19"/>
          <p:cNvSpPr/>
          <p:nvPr/>
        </p:nvSpPr>
        <p:spPr>
          <a:xfrm>
            <a:off x="7527960" y="4735440"/>
            <a:ext cx="12952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20"/>
          <p:cNvSpPr/>
          <p:nvPr/>
        </p:nvSpPr>
        <p:spPr>
          <a:xfrm>
            <a:off x="6854760" y="5581800"/>
            <a:ext cx="136836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Veiligheids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eg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21"/>
          <p:cNvSpPr/>
          <p:nvPr/>
        </p:nvSpPr>
        <p:spPr>
          <a:xfrm>
            <a:off x="6891480" y="1546200"/>
            <a:ext cx="12952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ran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22"/>
          <p:cNvSpPr/>
          <p:nvPr/>
        </p:nvSpPr>
        <p:spPr>
          <a:xfrm>
            <a:off x="189000" y="3325680"/>
            <a:ext cx="178416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ijksinspec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23"/>
          <p:cNvSpPr/>
          <p:nvPr/>
        </p:nvSpPr>
        <p:spPr>
          <a:xfrm>
            <a:off x="341280" y="3478320"/>
            <a:ext cx="178452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ijksinspec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24"/>
          <p:cNvSpPr/>
          <p:nvPr/>
        </p:nvSpPr>
        <p:spPr>
          <a:xfrm>
            <a:off x="493560" y="3630600"/>
            <a:ext cx="178452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ijksinspec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70720" y="4054320"/>
            <a:ext cx="12970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OD-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26"/>
          <p:cNvSpPr/>
          <p:nvPr/>
        </p:nvSpPr>
        <p:spPr>
          <a:xfrm>
            <a:off x="3884760" y="2955960"/>
            <a:ext cx="1434960" cy="1128600"/>
          </a:xfrm>
          <a:prstGeom prst="roundRect">
            <a:avLst>
              <a:gd name="adj" fmla="val 16667"/>
            </a:avLst>
          </a:prstGeom>
          <a:solidFill>
            <a:srgbClr val="f08400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1" name="AutoShape 27"/>
          <p:cNvCxnSpPr/>
          <p:nvPr/>
        </p:nvCxnSpPr>
        <p:spPr>
          <a:xfrm>
            <a:off x="2598840" y="2844360"/>
            <a:ext cx="1087920" cy="22140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2" name="AutoShape 28"/>
          <p:cNvCxnSpPr/>
          <p:nvPr/>
        </p:nvCxnSpPr>
        <p:spPr>
          <a:xfrm flipV="1">
            <a:off x="2542680" y="3963600"/>
            <a:ext cx="1089720" cy="23400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3" name="AutoShape 29"/>
          <p:cNvCxnSpPr/>
          <p:nvPr/>
        </p:nvCxnSpPr>
        <p:spPr>
          <a:xfrm flipH="1">
            <a:off x="5603400" y="2421000"/>
            <a:ext cx="913680" cy="55800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4" name="AutoShape 30"/>
          <p:cNvCxnSpPr/>
          <p:nvPr/>
        </p:nvCxnSpPr>
        <p:spPr>
          <a:xfrm flipH="1" flipV="1">
            <a:off x="5525640" y="4012920"/>
            <a:ext cx="828000" cy="37224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5" name="AutoShape 31"/>
          <p:cNvCxnSpPr/>
          <p:nvPr/>
        </p:nvCxnSpPr>
        <p:spPr>
          <a:xfrm flipV="1">
            <a:off x="4602240" y="4247640"/>
            <a:ext cx="2160" cy="58032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6" name="AutoShape 32"/>
          <p:cNvCxnSpPr/>
          <p:nvPr/>
        </p:nvCxnSpPr>
        <p:spPr>
          <a:xfrm>
            <a:off x="4289400" y="2055600"/>
            <a:ext cx="2160" cy="66564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RIHa-Milieu 1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5832360" y="603360"/>
            <a:ext cx="3003840" cy="384804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425520" y="1531800"/>
            <a:ext cx="758196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del vanuit handhavingsperspec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andhavingsobject” centra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ferenties naar objecten waarover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jn gemaak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asisregistr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aakgericht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elfde detailniveau als RSGB, RGBZ,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rgebruik van objecttypen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ttribu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 bestuurslagen, straf- en bestuursre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bruari 2013 vastgesteld in PI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geleidingscommissie (VNG, IPO, RUD’s,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olitie, OM, veiligheidsregio’s, I&amp;M, V&amp;J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5832360" y="647640"/>
            <a:ext cx="3003840" cy="3803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2"/>
          <a:stretch/>
        </p:blipFill>
        <p:spPr>
          <a:xfrm>
            <a:off x="5322960" y="2809800"/>
            <a:ext cx="336528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1"/>
          <p:cNvSpPr/>
          <p:nvPr/>
        </p:nvSpPr>
        <p:spPr>
          <a:xfrm>
            <a:off x="2390760" y="1300320"/>
            <a:ext cx="1728720" cy="865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personen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2"/>
          <p:cNvSpPr/>
          <p:nvPr/>
        </p:nvSpPr>
        <p:spPr>
          <a:xfrm>
            <a:off x="4335480" y="1319040"/>
            <a:ext cx="172728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N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edrijven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RIHa-Milie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4"/>
          <p:cNvSpPr/>
          <p:nvPr/>
        </p:nvSpPr>
        <p:spPr>
          <a:xfrm rot="16200000">
            <a:off x="7439040" y="3157560"/>
            <a:ext cx="1728720" cy="93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RGB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1454040" y="499104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‘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gebouwen</a:t>
            </a:r>
            <a:r>
              <a:rPr b="0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398760" y="499104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‘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percelen</a:t>
            </a:r>
            <a:r>
              <a:rPr b="0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5343480" y="4991040"/>
            <a:ext cx="172728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G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‘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topografi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988920" y="1940040"/>
            <a:ext cx="6546960" cy="337176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9"/>
          <p:cNvSpPr/>
          <p:nvPr/>
        </p:nvSpPr>
        <p:spPr>
          <a:xfrm>
            <a:off x="2660760" y="3263760"/>
            <a:ext cx="313344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HANDHAVINGSOBJ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2535120" y="2111400"/>
            <a:ext cx="3384720" cy="36036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BETROKKE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2535120" y="4775040"/>
            <a:ext cx="3384720" cy="36036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OCA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2"/>
          <p:cNvSpPr/>
          <p:nvPr/>
        </p:nvSpPr>
        <p:spPr>
          <a:xfrm>
            <a:off x="6396120" y="32637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VTH-Z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 flipV="1">
            <a:off x="4227480" y="2469960"/>
            <a:ext cx="1800" cy="795240"/>
          </a:xfrm>
          <a:prstGeom prst="line">
            <a:avLst/>
          </a:prstGeom>
          <a:ln cap="sq"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 flipV="1">
            <a:off x="4227480" y="3981240"/>
            <a:ext cx="1800" cy="795240"/>
          </a:xfrm>
          <a:prstGeom prst="line">
            <a:avLst/>
          </a:prstGeom>
          <a:ln cap="sq"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5"/>
          <p:cNvSpPr/>
          <p:nvPr/>
        </p:nvSpPr>
        <p:spPr>
          <a:xfrm flipH="1">
            <a:off x="5792760" y="3624120"/>
            <a:ext cx="604800" cy="1800"/>
          </a:xfrm>
          <a:prstGeom prst="line">
            <a:avLst/>
          </a:prstGeom>
          <a:ln cap="sq"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1"/>
          <p:cNvSpPr/>
          <p:nvPr/>
        </p:nvSpPr>
        <p:spPr>
          <a:xfrm>
            <a:off x="611280" y="40464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StUF-RIHa 0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611280" y="1125360"/>
            <a:ext cx="83613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tUFfing RIHa-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rgebruik elementen RSGB &amp; RGB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et Milieu-specifi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IM, Maarten van den Br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titeiten en koppelvlakbeschrijvi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zoek/respons geïmplementeerd als vrije beri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baseerd op koppelvlakken 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XML Schema’s en wsdl'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cument keuzes/toelich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uni 2013 in StUF expertg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34800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a6eb"/>
                </a:solidFill>
                <a:latin typeface="Calibri"/>
              </a:rPr>
              <a:t>R01: Beheercontinuïteit &gt;= 3 j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826920" y="1341360"/>
            <a:ext cx="771552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ot eind 2014 binnen het PIM progra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na binnen een nieuw op te richten organisatie (onderdeel), mogelijk binnen Inspectie Leefomgeving &amp;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menhang met beheer v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elsel van Inspectieviews (IV Bedrijven, Wegtransport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igitale Agenda Omgevingsrecht (OLO, RO-On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oogde beheerorganisatie beschreven in ‘Beheerplan PIM standaarden’, opgezet conform B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a6eb"/>
                </a:solidFill>
                <a:latin typeface="Calibri"/>
              </a:rPr>
              <a:t>R02: afhankelijkheid andere StUF-onder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793800" y="1519200"/>
            <a:ext cx="771516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UF-RIHa 0100 sluit aan bij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 onderlaag stuf03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-BG bg03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-ZKN zkn03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rgebruik van elementen uit BG en ZKN daar waar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gikoppeling WUS 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zoek/respons geïmplementeerd als vrije beri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a6eb"/>
                </a:solidFill>
                <a:latin typeface="Calibri"/>
              </a:rPr>
              <a:t>R03: releasebel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793800" y="1519200"/>
            <a:ext cx="771516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UF-RIHa volgt uit aanpassingen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IHa-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 basis, ZKN en B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ige gerelateerde standaarden/voorzieni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hankelijkheden beschreven in Beheerplan PIM stand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UF-RIHa gebruikt standaard StUF versienummering (XX, YY, Z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IHa-Milieu: X, Y, Z versies (1x/3 jaar, 1x/jaar, wanneer nodi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26:45Z</dcterms:created>
  <dc:creator>Nico Laus</dc:creator>
  <dc:description/>
  <dc:language>en-US</dc:language>
  <cp:lastModifiedBy>maaar</cp:lastModifiedBy>
  <dcterms:modified xsi:type="dcterms:W3CDTF">2013-09-30T11:26:49Z</dcterms:modified>
  <cp:revision>152</cp:revision>
  <dc:subject/>
  <dc:title>PowerPoint-presentatie</dc:title>
</cp:coreProperties>
</file>